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5BF52-02BF-440D-AA5E-D264DB2FB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D7A8A-C800-4E6C-BE7B-6D84EF939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EC95A-E76A-41E7-A02E-CAA7CD7F8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B0333-09C3-41AF-8546-9DE7DB35C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C4CAB-B195-4DD1-874C-E75A1AC7E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1B2BC-5E39-41EB-A3EC-CADD8EEB2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B2438-B13D-4C16-ACB1-8463DF21F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338A2-6920-40C9-AC56-8EDD3414B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B49A1-E529-48DD-86A0-D5D68562D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D532C-F0F2-4DDF-864E-92187A84C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F74E5-66D0-4B56-B8DB-8B0EAF1A1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A3254-0F1F-4371-A7A7-BBF7A279B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64B13C-B01C-4DF7-ABB2-5519500F80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0T22:04:20Z</dcterms:created>
  <dc:creator>Brion </dc:creator>
  <dc:description/>
  <dc:language>en-US</dc:language>
  <cp:lastModifiedBy/>
  <cp:revision>1</cp:revision>
  <dc:subject/>
  <dc:title/>
</cp:coreProperties>
</file>