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67278"/>
        <c:axId val="38414897"/>
      </c:barChart>
      <c:catAx>
        <c:axId val="74267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14897"/>
        <c:crosses val="autoZero"/>
        <c:auto val="1"/>
        <c:lblAlgn val="ctr"/>
        <c:lblOffset val="100"/>
        <c:noMultiLvlLbl val="0"/>
      </c:catAx>
      <c:valAx>
        <c:axId val="38414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67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254-8062-464A-A675-98A5696F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39B-1EBF-48E6-A3D9-8C8F7E72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0FC-7A7E-409F-964E-9D367E24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3FD-AA6E-479E-82FF-CE4C08FB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AE6-0DB1-4095-BD51-0553581A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A71-7801-4E2D-A389-89B8D1FD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064-73F3-46D5-8630-33685D2F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F30-B83E-4E5E-9F21-A8091FF6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2B0-991C-42CF-A241-B88EFB56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180-8D5F-4432-81EC-8D67B2DA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79F-AE4A-491A-A96A-4675F62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99D-D19C-4A17-833F-988965F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C399D-D9B9-4D70-AB7C-614F7B0E48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