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95276"/>
        <c:axId val="45059142"/>
      </c:barChart>
      <c:catAx>
        <c:axId val="63995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59142"/>
        <c:crosses val="autoZero"/>
        <c:auto val="1"/>
        <c:lblAlgn val="ctr"/>
        <c:lblOffset val="100"/>
        <c:noMultiLvlLbl val="0"/>
      </c:catAx>
      <c:valAx>
        <c:axId val="45059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95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39D-FCCA-4EEF-8DAA-0C4EB742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EDF-0EAD-4996-B32C-BD82608B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904-0A26-440A-AE03-136E9201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1DA-EB96-4589-BE76-F13D12F4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2F5-0962-4EF6-B04C-395FFC47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8A7-7F52-4119-809D-15E6B08F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290-F217-4A7B-8604-24F96910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8471-03E6-4A3E-AB34-0D5FDBBA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68B-7DE4-421D-B86A-C4C446BA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64E-1FE2-47E8-B62C-EE314C34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AA7-3160-4D09-B845-8093EE03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E6E-78AE-4663-B2AF-A6A688FE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6C12E-F320-4E8B-812A-6115E8545C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