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92143"/>
        <c:axId val="95795115"/>
      </c:barChart>
      <c:catAx>
        <c:axId val="49792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95115"/>
        <c:crosses val="autoZero"/>
        <c:auto val="1"/>
        <c:lblAlgn val="ctr"/>
        <c:lblOffset val="100"/>
        <c:noMultiLvlLbl val="0"/>
      </c:catAx>
      <c:valAx>
        <c:axId val="95795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92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80E-3716-452C-81D0-EF59A397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14B-192E-49A6-9002-5435BD9A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E64-0AB0-4F1C-B988-71F1D52B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F5D-17DD-44CE-845C-DCF99777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110-9714-47CC-B9A5-EAC14195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11E-AD71-4283-8D09-979F3412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1A5-6FFD-431A-83F4-6A260953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E54-832C-418E-B1EE-2147FF3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011-4341-48C6-9663-3EDF9455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833-7034-4E40-8033-C1954F81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47D1-B03E-4DF0-BEEF-DE59FD0F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1EB-FF1C-48F7-92BD-A638C26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89D96-6C33-4511-839F-E9C9BDAD48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