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1.xml.rels" ContentType="application/vnd.openxmlformats-package.relationships+xml"/>
  <Override PartName="/ppt/notesSlides/notesSlide10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  <p:sldId id="343" r:id="rId94"/>
    <p:sldId id="344" r:id="rId95"/>
    <p:sldId id="345" r:id="rId96"/>
    <p:sldId id="346" r:id="rId97"/>
    <p:sldId id="347" r:id="rId98"/>
    <p:sldId id="348" r:id="rId99"/>
    <p:sldId id="349" r:id="rId100"/>
    <p:sldId id="350" r:id="rId101"/>
    <p:sldId id="351" r:id="rId102"/>
    <p:sldId id="352" r:id="rId103"/>
    <p:sldId id="353" r:id="rId104"/>
    <p:sldId id="354" r:id="rId105"/>
    <p:sldId id="355" r:id="rId106"/>
    <p:sldId id="356" r:id="rId107"/>
    <p:sldId id="357" r:id="rId108"/>
    <p:sldId id="358" r:id="rId109"/>
    <p:sldId id="359" r:id="rId110"/>
    <p:sldId id="360" r:id="rId111"/>
    <p:sldId id="361" r:id="rId112"/>
    <p:sldId id="362" r:id="rId113"/>
    <p:sldId id="363" r:id="rId114"/>
    <p:sldId id="364" r:id="rId115"/>
    <p:sldId id="365" r:id="rId116"/>
    <p:sldId id="366" r:id="rId117"/>
    <p:sldId id="367" r:id="rId118"/>
    <p:sldId id="368" r:id="rId119"/>
    <p:sldId id="369" r:id="rId120"/>
    <p:sldId id="370" r:id="rId121"/>
    <p:sldId id="371" r:id="rId122"/>
    <p:sldId id="372" r:id="rId123"/>
    <p:sldId id="373" r:id="rId124"/>
    <p:sldId id="374" r:id="rId125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1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slide" Target="slides/slide88.xml"/><Relationship Id="rId95" Type="http://schemas.openxmlformats.org/officeDocument/2006/relationships/slide" Target="slides/slide89.xml"/><Relationship Id="rId96" Type="http://schemas.openxmlformats.org/officeDocument/2006/relationships/slide" Target="slides/slide90.xml"/><Relationship Id="rId97" Type="http://schemas.openxmlformats.org/officeDocument/2006/relationships/slide" Target="slides/slide91.xml"/><Relationship Id="rId98" Type="http://schemas.openxmlformats.org/officeDocument/2006/relationships/slide" Target="slides/slide92.xml"/><Relationship Id="rId99" Type="http://schemas.openxmlformats.org/officeDocument/2006/relationships/slide" Target="slides/slide93.xml"/><Relationship Id="rId100" Type="http://schemas.openxmlformats.org/officeDocument/2006/relationships/slide" Target="slides/slide94.xml"/><Relationship Id="rId101" Type="http://schemas.openxmlformats.org/officeDocument/2006/relationships/slide" Target="slides/slide95.xml"/><Relationship Id="rId102" Type="http://schemas.openxmlformats.org/officeDocument/2006/relationships/slide" Target="slides/slide96.xml"/><Relationship Id="rId103" Type="http://schemas.openxmlformats.org/officeDocument/2006/relationships/slide" Target="slides/slide97.xml"/><Relationship Id="rId104" Type="http://schemas.openxmlformats.org/officeDocument/2006/relationships/slide" Target="slides/slide98.xml"/><Relationship Id="rId105" Type="http://schemas.openxmlformats.org/officeDocument/2006/relationships/slide" Target="slides/slide99.xml"/><Relationship Id="rId106" Type="http://schemas.openxmlformats.org/officeDocument/2006/relationships/slide" Target="slides/slide100.xml"/><Relationship Id="rId107" Type="http://schemas.openxmlformats.org/officeDocument/2006/relationships/slide" Target="slides/slide101.xml"/><Relationship Id="rId108" Type="http://schemas.openxmlformats.org/officeDocument/2006/relationships/slide" Target="slides/slide102.xml"/><Relationship Id="rId109" Type="http://schemas.openxmlformats.org/officeDocument/2006/relationships/slide" Target="slides/slide103.xml"/><Relationship Id="rId110" Type="http://schemas.openxmlformats.org/officeDocument/2006/relationships/slide" Target="slides/slide104.xml"/><Relationship Id="rId111" Type="http://schemas.openxmlformats.org/officeDocument/2006/relationships/slide" Target="slides/slide105.xml"/><Relationship Id="rId112" Type="http://schemas.openxmlformats.org/officeDocument/2006/relationships/slide" Target="slides/slide106.xml"/><Relationship Id="rId113" Type="http://schemas.openxmlformats.org/officeDocument/2006/relationships/slide" Target="slides/slide107.xml"/><Relationship Id="rId114" Type="http://schemas.openxmlformats.org/officeDocument/2006/relationships/slide" Target="slides/slide108.xml"/><Relationship Id="rId115" Type="http://schemas.openxmlformats.org/officeDocument/2006/relationships/slide" Target="slides/slide109.xml"/><Relationship Id="rId116" Type="http://schemas.openxmlformats.org/officeDocument/2006/relationships/slide" Target="slides/slide110.xml"/><Relationship Id="rId117" Type="http://schemas.openxmlformats.org/officeDocument/2006/relationships/slide" Target="slides/slide111.xml"/><Relationship Id="rId118" Type="http://schemas.openxmlformats.org/officeDocument/2006/relationships/slide" Target="slides/slide112.xml"/><Relationship Id="rId119" Type="http://schemas.openxmlformats.org/officeDocument/2006/relationships/slide" Target="slides/slide113.xml"/><Relationship Id="rId120" Type="http://schemas.openxmlformats.org/officeDocument/2006/relationships/slide" Target="slides/slide114.xml"/><Relationship Id="rId121" Type="http://schemas.openxmlformats.org/officeDocument/2006/relationships/slide" Target="slides/slide115.xml"/><Relationship Id="rId122" Type="http://schemas.openxmlformats.org/officeDocument/2006/relationships/slide" Target="slides/slide116.xml"/><Relationship Id="rId123" Type="http://schemas.openxmlformats.org/officeDocument/2006/relationships/slide" Target="slides/slide117.xml"/><Relationship Id="rId124" Type="http://schemas.openxmlformats.org/officeDocument/2006/relationships/slide" Target="slides/slide118.xml"/><Relationship Id="rId125" Type="http://schemas.openxmlformats.org/officeDocument/2006/relationships/slide" Target="slides/slide119.xml"/><Relationship Id="rId1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9480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6"/>
          </p:nvPr>
        </p:nvSpPr>
        <p:spPr>
          <a:xfrm>
            <a:off x="39351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64960" y="691920"/>
            <a:ext cx="4616280" cy="3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move the slide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95160" y="4386240"/>
            <a:ext cx="555624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7"/>
          </p:nvPr>
        </p:nvSpPr>
        <p:spPr>
          <a:xfrm>
            <a:off x="-3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8"/>
          </p:nvPr>
        </p:nvSpPr>
        <p:spPr>
          <a:xfrm>
            <a:off x="39351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726F9FF-796F-41A7-8D16-3C7625AE49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23760" y="4386240"/>
            <a:ext cx="5099040" cy="41544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BC389-3B6D-4B1E-9A2C-449FC05D38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26D47-4D25-4CB8-A6D5-02ECCFD548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719C2-1DE0-4FD3-976E-EE9BC1735E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0CB1A-B031-4D01-8884-014DD7144A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860191-ECD2-416D-A693-97CE8A628B5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61866C-EE1D-4B0B-AD29-745AE5F9F05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D08039-0F68-4A01-B8CF-C12A58F38A4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F19356-E879-44B1-A267-6A58FB147CF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3B7E7A-E98F-4E84-8EEF-61D6EC6E2C1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C47805-0608-4081-B07F-6BCA45FE73A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7B80AF-0A25-455B-AE56-BCAA5802B6E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98B43-1289-47DF-99C1-2631935470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CB2675-7246-4F75-9A38-046AF0A5592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FCD2B7-E95E-4760-96AE-615E7FDFFD5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A0E4F1-8D5C-4BBF-9E9B-69AC3359CD4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7ACC4E-2933-4C45-BB2F-98523C1DD2D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275B6D-0548-4CDF-ACBA-AC2E975A842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DD3FA2-1B60-4034-B65B-C4F56522E3F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1CA845-D60F-42D8-B2D1-6D48ECD81C5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E6CA8F-5BAB-4B14-932B-4D72CD621AB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02FD51-8801-496D-9839-E97DA36B3CF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79521F-2E10-457C-8204-5E4A5D25787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89B6B-0F7F-4FB5-9FCE-1D11CD24288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A64CCA-463F-4006-879D-8E625EC9392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58FD07-20FA-4572-A0C6-ACC3B437235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8F4E2C-49EF-44AA-9A57-D7CC489FCB8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0266DD-D5DD-4F61-88BD-EB1ECDE20DF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B2A334-4C6E-4B2E-A944-30B1474A956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270F69-7F1F-4C57-91D1-6484396C2B1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557489-E170-4423-AED3-FD6A61F532F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439FA-E1E6-457B-9755-1864E3BF8EC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E6B5A-A056-40F8-A9BD-1E530147FF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BE4C3-F8F8-4E07-A643-86435BA087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33BC8-C14A-4CD3-846A-251AD7E2A1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D0178-A321-4C6A-BC8F-9293FF9D0E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F2408-D686-472E-87CD-2BDC8430C4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1680" y="1776240"/>
            <a:ext cx="773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154080" y="64623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888E6-6686-4DDD-AADB-758E65677CA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47920" y="6437160"/>
            <a:ext cx="0" cy="19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475320"/>
            <a:ext cx="76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sentation Title  |  Presentation Subtitle  |  © 2006 by «Author»; made available under the EPL v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0240" y="1706400"/>
            <a:ext cx="79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6883560" y="240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EA30B-3CDB-491F-8BCA-C77ADF486A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840" y="6456240"/>
            <a:ext cx="9099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© 2006 by «Author»; made available under the EPL v1.0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2" marL="102852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3" marL="144000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4" marL="185148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3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4"/>
          </p:nvPr>
        </p:nvSpPr>
        <p:spPr>
          <a:xfrm>
            <a:off x="8675280" y="6453360"/>
            <a:ext cx="909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7508E-DCC2-4E22-9D71-AC805FC78682}" type="slidenum">
              <a:rPr b="1" lang="de-DE" sz="1400" spc="-1" strike="noStrike">
                <a:solidFill>
                  <a:srgbClr val="646464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image" Target="../media/image13.pn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2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hyperlink" Target="http://eclipse.org/ajdt" TargetMode="External"/><Relationship Id="rId5" Type="http://schemas.openxmlformats.org/officeDocument/2006/relationships/slideLayout" Target="../slideLayouts/slideLayout27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jdt/downloads/" TargetMode="External"/><Relationship Id="rId3" Type="http://schemas.openxmlformats.org/officeDocument/2006/relationships/slideLayout" Target="../slideLayouts/slideLayout2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slideLayout" Target="../slideLayouts/slideLayout2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5360" y="11044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6699"/>
                </a:solidFill>
                <a:latin typeface="Trebuchet MS"/>
              </a:rPr>
              <a:t>Aspect-Oriented Programming with AspectJ</a:t>
            </a:r>
            <a:r>
              <a:rPr b="0" lang="en-GB" sz="5100" spc="-1" strike="noStrike">
                <a:solidFill>
                  <a:srgbClr val="006699"/>
                </a:solidFill>
                <a:latin typeface="Trebuchet MS"/>
              </a:rPr>
              <a:t> 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875880" y="2550960"/>
            <a:ext cx="7404120" cy="35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dy Clemen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464"/>
                </a:solidFill>
                <a:latin typeface="Trebuchet MS"/>
              </a:rPr>
              <a:t>AspectJ Committer, IBM U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2" name=""/>
          <p:cNvSpPr/>
          <p:nvPr/>
        </p:nvSpPr>
        <p:spPr>
          <a:xfrm>
            <a:off x="8019360" y="1700280"/>
            <a:ext cx="3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®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small and well-integrated extension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outputs .class files compatible with any JVM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Java programs are AspectJ program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</a:t>
            </a: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general-purpos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AO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just as Java is a general-purpose OO language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3" name=""/>
          <p:cNvSpPr/>
          <p:nvPr/>
        </p:nvSpPr>
        <p:spPr>
          <a:xfrm>
            <a:off x="250920" y="116064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086680" y="2313000"/>
            <a:ext cx="44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T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431D4B-AE18-4FB4-AE69-E58152699BDA}" type="slidenum">
              <a:t>10</a:t>
            </a:fld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eneficial to separate o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exactly the same questions as for objec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does it improve the code in real ways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paration of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larifies interactions, reduces tangl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all the traceEntry are really the s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asier to modify / exte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change the implementation of trac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lug and pla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ing aspects unplugged but not delete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2AE337-F29A-4E2E-8708-18AF223E782F}" type="slidenum">
              <a:t>100</a:t>
            </a:fld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3280" y="368280"/>
            <a:ext cx="822960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ected benefits of using AO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95360" y="152100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good modularity, even in the presence of crosscutting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ess tangled code, more natural code, smaller cod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asier maintenance and evolu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ier to reason about, debug, change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ore reusab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ore possibilities for plug and pla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bstract aspec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E25715-7D14-4C99-8A3F-47CEA29FE207}" type="slidenum">
              <a:t>101</a:t>
            </a:fld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250920" y="1089000"/>
            <a:ext cx="867708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dopting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2" name=""/>
          <p:cNvSpPr/>
          <p:nvPr/>
        </p:nvSpPr>
        <p:spPr>
          <a:xfrm>
            <a:off x="740880" y="13590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w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726240" y="6024600"/>
            <a:ext cx="208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 &amp; confid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723960" y="1401480"/>
            <a:ext cx="1440" cy="4629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739800" y="5040360"/>
            <a:ext cx="965160" cy="1000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670120" y="4089240"/>
            <a:ext cx="965160" cy="1951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704960" y="4556160"/>
            <a:ext cx="965160" cy="1484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637080" y="3598920"/>
            <a:ext cx="965160" cy="2441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602240" y="3116160"/>
            <a:ext cx="966600" cy="292428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568840" y="2635200"/>
            <a:ext cx="962280" cy="340524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6529320" y="1677960"/>
            <a:ext cx="1928880" cy="43624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732040" y="5300640"/>
            <a:ext cx="1816200" cy="72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uxiliary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nfrastructu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948200" y="5300640"/>
            <a:ext cx="1212840" cy="727200"/>
          </a:xfrm>
          <a:prstGeom prst="rect">
            <a:avLst/>
          </a:prstGeom>
          <a:solidFill>
            <a:srgbClr val="00a8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core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busine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7042320" y="5133960"/>
            <a:ext cx="896760" cy="725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Analysis,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Design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Strateg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741240" y="1650960"/>
            <a:ext cx="7716960" cy="3863880"/>
          </a:xfrm>
          <a:custGeom>
            <a:avLst/>
            <a:gdLst/>
            <a:ahLst/>
            <a:rect l="l" t="t" r="r" b="b"/>
            <a:pathLst>
              <a:path w="5109" h="2669">
                <a:moveTo>
                  <a:pt x="0" y="2669"/>
                </a:moveTo>
                <a:lnTo>
                  <a:pt x="1" y="0"/>
                </a:lnTo>
                <a:lnTo>
                  <a:pt x="5109" y="7"/>
                </a:lnTo>
                <a:lnTo>
                  <a:pt x="0" y="26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739800" y="1509480"/>
            <a:ext cx="8050320" cy="4019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731880" y="6032520"/>
            <a:ext cx="812808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341360" y="5340240"/>
            <a:ext cx="965160" cy="652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863640" y="5486400"/>
            <a:ext cx="1674720" cy="363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xploration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nforce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087342-87FA-41AC-80C9-71A7D14CFE1A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6699"/>
                </a:solidFill>
                <a:latin typeface="Trebuchet MS"/>
              </a:rPr>
              <a:t>Exploration &amp; Enforcement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o monitor, analyze, debug system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use individually or share with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hat ensure design integ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run privately, as part of nightly build, or shared w/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haring with team can be supported b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integration in IDE or including in ant scrip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No runtime dependency on 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production code has not been touched by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2" name=""/>
          <p:cNvSpPr/>
          <p:nvPr/>
        </p:nvSpPr>
        <p:spPr>
          <a:xfrm>
            <a:off x="7253280" y="113364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7253280" y="907920"/>
            <a:ext cx="209520" cy="225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7670880" y="692280"/>
            <a:ext cx="209520" cy="441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7462800" y="798480"/>
            <a:ext cx="208080" cy="335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880400" y="581040"/>
            <a:ext cx="209520" cy="552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808992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829944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8507520" y="147600"/>
            <a:ext cx="41724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725328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236000" y="115920"/>
            <a:ext cx="173808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0D6C36-5343-477C-AB42-31A8A6E84AA5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on’t use System.err.println !!!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3" name=""/>
          <p:cNvSpPr/>
          <p:nvPr/>
        </p:nvSpPr>
        <p:spPr>
          <a:xfrm>
            <a:off x="934920" y="2421000"/>
            <a:ext cx="7382160" cy="325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ublic aspec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EnforceLogging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m.example..*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!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soleDebugger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out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err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Throwable+.printStackTrace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arning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8000"/>
                </a:solidFill>
                <a:latin typeface="Lucida Console"/>
              </a:rPr>
              <a:t>"don't print, use the logger"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6840" y="1398600"/>
            <a:ext cx="8086680" cy="33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Warn developers using System.out, System.err and printStackTra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6F8917-4FA1-4FB8-9CAB-3CFAE003630E}" type="slidenum">
              <a:t>104</a:t>
            </a:fld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rchitectural Layer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6" name=""/>
          <p:cNvSpPr/>
          <p:nvPr/>
        </p:nvSpPr>
        <p:spPr>
          <a:xfrm>
            <a:off x="3772080" y="351828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3619440" y="1460880"/>
            <a:ext cx="171468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ist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772080" y="252792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3809880" y="4585320"/>
            <a:ext cx="137160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0" name=""/>
          <p:cNvCxnSpPr>
            <a:stCxn id="816" idx="0"/>
            <a:endCxn id="818" idx="2"/>
          </p:cNvCxnSpPr>
          <p:nvPr/>
        </p:nvCxnSpPr>
        <p:spPr>
          <a:xfrm flipV="1">
            <a:off x="4495320" y="2932200"/>
            <a:ext cx="1080" cy="581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1" name=""/>
          <p:cNvCxnSpPr>
            <a:stCxn id="819" idx="0"/>
            <a:endCxn id="816" idx="2"/>
          </p:cNvCxnSpPr>
          <p:nvPr/>
        </p:nvCxnSpPr>
        <p:spPr>
          <a:xfrm flipV="1">
            <a:off x="4495320" y="3922200"/>
            <a:ext cx="108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2" name=""/>
          <p:cNvCxnSpPr>
            <a:stCxn id="818" idx="0"/>
            <a:endCxn id="817" idx="2"/>
          </p:cNvCxnSpPr>
          <p:nvPr/>
        </p:nvCxnSpPr>
        <p:spPr>
          <a:xfrm flipH="1" flipV="1">
            <a:off x="4475880" y="1864800"/>
            <a:ext cx="1980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grpSp>
        <p:nvGrpSpPr>
          <p:cNvPr id="823" name=""/>
          <p:cNvGrpSpPr/>
          <p:nvPr/>
        </p:nvGrpSpPr>
        <p:grpSpPr>
          <a:xfrm>
            <a:off x="647640" y="4309920"/>
            <a:ext cx="8762760" cy="990720"/>
            <a:chOff x="647640" y="4309920"/>
            <a:chExt cx="8762760" cy="990720"/>
          </a:xfrm>
        </p:grpSpPr>
        <p:sp>
          <p:nvSpPr>
            <p:cNvPr id="824" name=""/>
            <p:cNvSpPr/>
            <p:nvPr/>
          </p:nvSpPr>
          <p:spPr>
            <a:xfrm>
              <a:off x="647640" y="4309920"/>
              <a:ext cx="7647480" cy="9907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844600" y="4606920"/>
              <a:ext cx="356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647640" y="3208320"/>
            <a:ext cx="7618320" cy="9907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972480" y="3513240"/>
            <a:ext cx="12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47640" y="2141640"/>
            <a:ext cx="7620120" cy="9903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896160" y="2446200"/>
            <a:ext cx="14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0" name=""/>
          <p:cNvGrpSpPr/>
          <p:nvPr/>
        </p:nvGrpSpPr>
        <p:grpSpPr>
          <a:xfrm>
            <a:off x="647640" y="1150920"/>
            <a:ext cx="7619760" cy="914400"/>
            <a:chOff x="647640" y="1150920"/>
            <a:chExt cx="7619760" cy="914400"/>
          </a:xfrm>
        </p:grpSpPr>
        <p:sp>
          <p:nvSpPr>
            <p:cNvPr id="831" name=""/>
            <p:cNvSpPr/>
            <p:nvPr/>
          </p:nvSpPr>
          <p:spPr>
            <a:xfrm>
              <a:off x="647640" y="1150920"/>
              <a:ext cx="7619760" cy="9144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084440" y="1424880"/>
              <a:ext cx="103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33" name=""/>
          <p:cNvCxnSpPr>
            <a:stCxn id="819" idx="3"/>
            <a:endCxn id="818" idx="3"/>
          </p:cNvCxnSpPr>
          <p:nvPr/>
        </p:nvCxnSpPr>
        <p:spPr>
          <a:xfrm flipV="1">
            <a:off x="5181480" y="2727000"/>
            <a:ext cx="38880" cy="2057760"/>
          </a:xfrm>
          <a:prstGeom prst="curvedConnector5">
            <a:avLst>
              <a:gd name="adj1" fmla="val 1724299"/>
              <a:gd name="adj2" fmla="val 49991"/>
              <a:gd name="adj3" fmla="val 1724299"/>
            </a:avLst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FE0C23-CC82-4D09-AC10-8500AC534DFD}" type="slidenum">
              <a:t>105</a:t>
            </a:fld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Map packages to componen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5" name=""/>
          <p:cNvSpPr/>
          <p:nvPr/>
        </p:nvSpPr>
        <p:spPr>
          <a:xfrm>
            <a:off x="539640" y="1881360"/>
            <a:ext cx="8153640" cy="20408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rchitecture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View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view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Model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model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Controller() :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troller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Persistence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persistence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98676E-B4BD-48BF-81B2-C3B94361EDC6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‘</a:t>
            </a: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External’ calls into components</a:t>
            </a:r>
            <a:endParaRPr b="0" lang="en-US" sz="42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7" name=""/>
          <p:cNvSpPr/>
          <p:nvPr/>
        </p:nvSpPr>
        <p:spPr>
          <a:xfrm>
            <a:off x="468360" y="1449360"/>
            <a:ext cx="8153280" cy="307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view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view..*(..)) &amp;&amp; !inView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model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model..*(..)) &amp;&amp; !inModel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controller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controller..*(..)) &amp;&amp; !inController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persistence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persistence..*(..)) &amp;&amp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!inPersistenc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jdbcCall() 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javax.sql..*(..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FA6003-E9FD-4990-822B-86413E1EC401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Compile warnings for illegal call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9" name=""/>
          <p:cNvSpPr/>
          <p:nvPr/>
        </p:nvSpPr>
        <p:spPr>
          <a:xfrm>
            <a:off x="431640" y="1341360"/>
            <a:ext cx="8153640" cy="3930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controllerCal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No calls into controll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viewCall() &amp;&amp; !inController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controller can call view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modelCall() &amp;&amp; !(inController() || inView()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view and controller can call mode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persistenceCall() &amp;&amp; !inMode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model can access persistence lay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: jdbcCall() &amp;&amp; !inPersistence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Persistence layer handles all db access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613B7E-A985-45E6-A1A7-8D1B19B96672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uxiliary/Infrastructur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Whole team awarenes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evelopers know aspects are the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untime dependency on aspectjrt.ja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But only some developers 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working practic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day-to-day tool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ily understood business cas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42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42F718-CD69-4FBA-8F2C-FFCF32A245C8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ludes IDE suppor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JDT support for Eclip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freely available implement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mpiler &amp; tools are Open Sour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ctive user commun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j-users@eclipse.or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324000" y="1160640"/>
            <a:ext cx="84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AA391A-874C-4CE4-AFB5-F15AEA7902A0}" type="slidenum">
              <a:t>11</a:t>
            </a:fld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xample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cing, logg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rror and exception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onitoring and statistics gather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nsac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ession management (for e.g. persistenc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read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ach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Remote acces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54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172B2B-E6C2-4C90-897E-EAC6F7A7C434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Factors: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umber of source files in projec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erage time spent per file over a releas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(e.g. on tracing cod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6" name=""/>
          <p:cNvSpPr/>
          <p:nvPr/>
        </p:nvSpPr>
        <p:spPr>
          <a:xfrm>
            <a:off x="61272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CDDF2A-3ECF-49AF-8883-3A712A4FD1A9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 can certain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simple tracing aspect in &lt; 25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good tracing aspect in &lt; 50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 save a lot of ti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79" name=""/>
          <p:cNvSpPr/>
          <p:nvPr/>
        </p:nvSpPr>
        <p:spPr>
          <a:xfrm>
            <a:off x="971640" y="3500280"/>
            <a:ext cx="7024680" cy="1414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952560" y="3392640"/>
            <a:ext cx="7004160" cy="1482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1128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A0051D-D92C-4D0E-900B-E3CD353EB43A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Core/Business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aspects when implementing application’s core functiona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equires full team buy-in to 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s to tool set (e.g. JDT -&gt; AJDT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’ll be ready if you followed staged approach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understand technolog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anagement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94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CA836F-E641-49E0-894E-715B2206A326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The book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pic>
        <p:nvPicPr>
          <p:cNvPr id="905" name="" descr=""/>
          <p:cNvPicPr/>
          <p:nvPr/>
        </p:nvPicPr>
        <p:blipFill>
          <a:blip r:embed="rId2"/>
          <a:stretch/>
        </p:blipFill>
        <p:spPr>
          <a:xfrm>
            <a:off x="395280" y="1233360"/>
            <a:ext cx="3102120" cy="410220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/>
          <p:cNvPicPr/>
          <p:nvPr/>
        </p:nvPicPr>
        <p:blipFill>
          <a:blip r:embed="rId3"/>
          <a:stretch/>
        </p:blipFill>
        <p:spPr>
          <a:xfrm>
            <a:off x="7272360" y="3573360"/>
            <a:ext cx="1541520" cy="193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7" name="" descr=""/>
          <p:cNvPicPr/>
          <p:nvPr/>
        </p:nvPicPr>
        <p:blipFill>
          <a:blip r:embed="rId4"/>
          <a:stretch/>
        </p:blipFill>
        <p:spPr>
          <a:xfrm>
            <a:off x="3851280" y="3429000"/>
            <a:ext cx="1557360" cy="194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8" name="" descr=""/>
          <p:cNvPicPr/>
          <p:nvPr/>
        </p:nvPicPr>
        <p:blipFill>
          <a:blip r:embed="rId5"/>
          <a:stretch/>
        </p:blipFill>
        <p:spPr>
          <a:xfrm>
            <a:off x="5543640" y="3537000"/>
            <a:ext cx="1619280" cy="194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9" name="" descr=""/>
          <p:cNvPicPr/>
          <p:nvPr/>
        </p:nvPicPr>
        <p:blipFill>
          <a:blip r:embed="rId6"/>
          <a:stretch/>
        </p:blipFill>
        <p:spPr>
          <a:xfrm>
            <a:off x="5543640" y="1233360"/>
            <a:ext cx="1643040" cy="2303640"/>
          </a:xfrm>
          <a:prstGeom prst="rect">
            <a:avLst/>
          </a:prstGeom>
          <a:ln w="0">
            <a:noFill/>
          </a:ln>
        </p:spPr>
      </p:pic>
      <p:pic>
        <p:nvPicPr>
          <p:cNvPr id="910" name="" descr=""/>
          <p:cNvPicPr/>
          <p:nvPr/>
        </p:nvPicPr>
        <p:blipFill>
          <a:blip r:embed="rId7"/>
          <a:stretch/>
        </p:blipFill>
        <p:spPr>
          <a:xfrm>
            <a:off x="7272360" y="1268280"/>
            <a:ext cx="1581120" cy="2232000"/>
          </a:xfrm>
          <a:prstGeom prst="rect">
            <a:avLst/>
          </a:prstGeom>
          <a:ln w="0">
            <a:noFill/>
          </a:ln>
        </p:spPr>
      </p:pic>
      <p:pic>
        <p:nvPicPr>
          <p:cNvPr id="911" name="" descr=""/>
          <p:cNvPicPr/>
          <p:nvPr/>
        </p:nvPicPr>
        <p:blipFill>
          <a:blip r:embed="rId8"/>
          <a:stretch/>
        </p:blipFill>
        <p:spPr>
          <a:xfrm>
            <a:off x="3780000" y="1268280"/>
            <a:ext cx="1655640" cy="207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B5A935-8C6A-4FA4-BCAD-D593714CABA1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on the web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Trebuchet MS"/>
                <a:hlinkClick r:id="rId4"/>
              </a:rPr>
              <a:t>http://eclipse.org/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oin the mailing lists from our homep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mail me!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dy Clement, clemas@uk.ibm.co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6A3EC5-2FE3-4C45-92F9-82A2DB7B61C6}" type="slidenum">
              <a:t>115</a:t>
            </a:fld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V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Hands on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Getting set u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Handouts and exercises plug-in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http://eclipse.org/ajdt/EclipseCon2006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1.1 or 3.1.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2RC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4.dev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JDT downloads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eclipse.org/ajdt/downloads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rom the memory key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ull eclipse including everything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12_ajdt131_exercises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2rc2_ajdt140_exercises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Or… (unzip in your base eclipse directory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3.1_for_eclipse_3.1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4.0.20060503081550_archive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rg.aspectj.tutorial.exercises_1.0.0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3A0EE7-5B6F-4367-BFF6-DEA68662C9EE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technolog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is a small extension to Java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id Java programs are also valid AspectJ program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has its own compiler, ajc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uns on Java 2 platform (Java 1.3 or later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oduces Java platform-compatible .class files 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(Java 1.1 - 1.5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tools suppor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clipse support: 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t task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orks with existing debugg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icen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iler, runtime and tools are Open Source and free for any us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DC6E05-C581-4AB5-9EC1-E3E07743F522}" type="slidenum">
              <a:t>118</a:t>
            </a:fld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edi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21" name=""/>
          <p:cNvSpPr/>
          <p:nvPr/>
        </p:nvSpPr>
        <p:spPr>
          <a:xfrm>
            <a:off x="324000" y="1523880"/>
            <a:ext cx="8604000" cy="47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pectJ* &amp; AJDT are Eclipse.org pro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rrent AspectJ and AJDT committer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rian Colyer, Matt Chapman, Andrew Clement, Helen Hawkins, Wes Isberg, Sian January, Mik Kersten, Alexandre Vasseur, Julie Waterhouse, and Matthew Web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able work by: Ron Bodkin, Erik Hilsdale, Jim Hugunin, Gregor Kicz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* Originally developed at PARC, with support from NIST and DARP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pectJ is a registered trademark of Palo Alto Research Center Inc. in the United States and/or other countr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ava and all Java-based trademarks are trademarks of Sun Microsystems, Inc. in the United States, other countries, or bot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FBAA7E-8DDD-41AE-A5FA-26A124DE0295}" type="slidenum">
              <a:t>119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xample: java code base with 10,000 files and 500 develo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omparison of capturing policies with ‘regular’ techniques or with Aspect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  (yey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ofiling poli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41A7F7-E9C7-4ED3-8687-001FF0A48BE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What’s the differenc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1" name=""/>
          <p:cNvSpPr/>
          <p:nvPr/>
        </p:nvSpPr>
        <p:spPr>
          <a:xfrm>
            <a:off x="1619280" y="202392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8728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05092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1440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871640" y="245592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63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3164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29528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684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1600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050920" y="375300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303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2400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03280" y="494028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19280" y="4797360"/>
            <a:ext cx="14256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56000" y="4976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6836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00360" y="227664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31640" y="209700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6360" y="2239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76360" y="3247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3280" y="486900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32000" y="389736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71640" y="497664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5280" y="2997360"/>
            <a:ext cx="504720" cy="43164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7280" y="1557360"/>
            <a:ext cx="295272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traditional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91280" y="202392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65964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2328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6912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43640" y="245592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335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90400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6764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6156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588000" y="418464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52328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954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775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904000" y="209700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64000" y="4292640"/>
            <a:ext cx="395280" cy="39672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867280" y="2924280"/>
            <a:ext cx="505080" cy="50472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59280" y="1557360"/>
            <a:ext cx="295308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op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867280" y="2997360"/>
            <a:ext cx="4683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564000" y="4797360"/>
            <a:ext cx="395280" cy="39708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032360" y="432900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2360" y="4834080"/>
            <a:ext cx="1690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456000" y="4221000"/>
            <a:ext cx="1871640" cy="10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43280" y="2097000"/>
            <a:ext cx="1332000" cy="611280"/>
          </a:xfrm>
          <a:custGeom>
            <a:avLst/>
            <a:gdLst>
              <a:gd name="textAreaLeft" fmla="*/ 208080 w 1332000"/>
              <a:gd name="textAreaRight" fmla="*/ 1165680 w 1332000"/>
              <a:gd name="textAreaTop" fmla="*/ 152640 h 611280"/>
              <a:gd name="textAreaBottom" fmla="*/ 458640 h 611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064360" y="2097000"/>
            <a:ext cx="505080" cy="432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76720" y="2781360"/>
            <a:ext cx="259236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scatte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tang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64000" y="4797360"/>
            <a:ext cx="14256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8DD44E-7E86-4638-876B-652F7BF29E4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liminating tangl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216000" y="1160280"/>
            <a:ext cx="4427280" cy="50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FFDCEngine.processException(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ex,”EBean.passivate()”,”237”,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this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if (!removed &amp;&amp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 != null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.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recordPassivation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if (Logger.isEnabled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Logger.exit(tc,”passivate”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60560" y="785880"/>
            <a:ext cx="4033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7" name=""/>
          <p:cNvSpPr/>
          <p:nvPr/>
        </p:nvSpPr>
        <p:spPr>
          <a:xfrm>
            <a:off x="4716360" y="1160640"/>
            <a:ext cx="3816360" cy="23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780160" y="3683160"/>
            <a:ext cx="28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Crosscutting concer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trac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148360" y="4616280"/>
            <a:ext cx="351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ample: Code to handle EJB Entity bean passiv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6300360" y="3357360"/>
            <a:ext cx="2509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024360" y="1160640"/>
            <a:ext cx="1618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912000" y="116064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6D84D5-CDBA-467C-9F9E-77DEC5DFD17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5-30 page policy docume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d by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develop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ust understand policy documen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one reusable crosscutting modu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licy captured explicitl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s policy uniformly for all ti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ritten by central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no burden on other 492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4E47F7-6953-4074-8BA5-5CFC8D4A7EE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epeat for new code asse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wkward to support varia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licates product lin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don’t even think about changing the policy!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utomatically applied to new cod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y plug and unplu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mplifies product line issu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hanges to policy happen in one pla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DCC536-6C32-463C-BC29-B64AF284B3B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Part II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990360" y="2742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646464"/>
                </a:solidFill>
                <a:latin typeface="Trebuchet MS"/>
              </a:rPr>
              <a:t>tutorial</a:t>
            </a:r>
            <a:endParaRPr b="0" lang="en-US" sz="4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language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goal: present basic mechanis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one simple exampl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mphasis on what the mechanisms do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mall scale motiv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F352D1-C99A-43CF-A225-03F89A5883B1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ON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overlay on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dynamic join points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oints in the execution” of Java program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D93CB2-1599-4E38-AAE8-3148F7D664F5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utlin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   AOP and AspectJ overview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otivation for AOP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roblems, basic concepts, contex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   AspectJ tutorial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language mechanism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riting aspec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Java5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the eclipse tools (demo…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I   Adopting AspectJ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E789CA-A3A5-4ADC-A8E3-CE0FED1273B6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FOUR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small additions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ick out join points and values at those poin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imitive, user-defined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inter-type declaratio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spect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 modular unit of crosscutting behavi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rised of advice, inter-type, pointcut,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, constructor, and method declar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0009C7-6E8B-4F7F-89D7-5AEFA671AB56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5796000" y="2176560"/>
            <a:ext cx="2305080" cy="1469880"/>
            <a:chOff x="5796000" y="2176560"/>
            <a:chExt cx="2305080" cy="1469880"/>
          </a:xfrm>
        </p:grpSpPr>
        <p:sp>
          <p:nvSpPr>
            <p:cNvPr id="291" name=""/>
            <p:cNvSpPr/>
            <p:nvPr/>
          </p:nvSpPr>
          <p:spPr>
            <a:xfrm>
              <a:off x="5796000" y="2176560"/>
              <a:ext cx="2305080" cy="14698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36080" y="25880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5196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524720" y="27644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1244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44480" y="2441160"/>
              <a:ext cx="511920" cy="35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92400" y="3234600"/>
              <a:ext cx="768240" cy="294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56400" y="319428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56400" y="349596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420680" y="319788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425000" y="3499560"/>
              <a:ext cx="6372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 flipH="1" flipV="1">
            <a:off x="5021280" y="2701800"/>
            <a:ext cx="1216080" cy="176400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843280" y="4702320"/>
            <a:ext cx="3394080" cy="484200"/>
          </a:xfrm>
          <a:custGeom>
            <a:avLst/>
            <a:gdLst/>
            <a:ahLst/>
            <a:rect l="l" t="t" r="r" b="b"/>
            <a:pathLst>
              <a:path w="2595" h="396">
                <a:moveTo>
                  <a:pt x="2595" y="0"/>
                </a:moveTo>
                <a:lnTo>
                  <a:pt x="1807" y="391"/>
                </a:lnTo>
                <a:lnTo>
                  <a:pt x="540" y="396"/>
                </a:lnTo>
                <a:lnTo>
                  <a:pt x="0" y="208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111640" y="4584600"/>
            <a:ext cx="1125720" cy="139680"/>
          </a:xfrm>
          <a:custGeom>
            <a:avLst/>
            <a:gdLst/>
            <a:ahLst/>
            <a:rect l="l" t="t" r="r" b="b"/>
            <a:pathLst>
              <a:path w="935" h="120">
                <a:moveTo>
                  <a:pt x="935" y="0"/>
                </a:moveTo>
                <a:lnTo>
                  <a:pt x="0" y="120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904000" y="4149720"/>
            <a:ext cx="172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operations that move el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700360" y="1278000"/>
            <a:ext cx="2654280" cy="1165320"/>
          </a:xfrm>
          <a:custGeom>
            <a:avLst/>
            <a:gdLst/>
            <a:ahLst/>
            <a:rect l="l" t="t" r="r" b="b"/>
            <a:pathLst>
              <a:path w="2404" h="951">
                <a:moveTo>
                  <a:pt x="2404" y="0"/>
                </a:moveTo>
                <a:lnTo>
                  <a:pt x="519" y="432"/>
                </a:lnTo>
                <a:lnTo>
                  <a:pt x="0" y="951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111640" y="1052640"/>
            <a:ext cx="143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actory metho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20680" y="1376280"/>
            <a:ext cx="1536840" cy="34452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657520" y="1940040"/>
            <a:ext cx="76824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189240" y="1720800"/>
            <a:ext cx="1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2647440" y="3757680"/>
            <a:ext cx="76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693880" y="3451320"/>
            <a:ext cx="25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3" name=""/>
          <p:cNvCxnSpPr/>
          <p:nvPr/>
        </p:nvCxnSpPr>
        <p:spPr>
          <a:xfrm flipV="1">
            <a:off x="1879200" y="3106440"/>
            <a:ext cx="1080" cy="2354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4" name=""/>
          <p:cNvCxnSpPr/>
          <p:nvPr/>
        </p:nvCxnSpPr>
        <p:spPr>
          <a:xfrm flipV="1">
            <a:off x="4176360" y="3104280"/>
            <a:ext cx="1080" cy="23436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5" name=""/>
          <p:cNvCxnSpPr/>
          <p:nvPr/>
        </p:nvCxnSpPr>
        <p:spPr>
          <a:xfrm>
            <a:off x="1879200" y="3106440"/>
            <a:ext cx="230544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6" name=""/>
          <p:cNvCxnSpPr/>
          <p:nvPr/>
        </p:nvCxnSpPr>
        <p:spPr>
          <a:xfrm flipV="1">
            <a:off x="4176720" y="2755440"/>
            <a:ext cx="10080" cy="349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grpSp>
        <p:nvGrpSpPr>
          <p:cNvPr id="317" name=""/>
          <p:cNvGrpSpPr/>
          <p:nvPr/>
        </p:nvGrpSpPr>
        <p:grpSpPr>
          <a:xfrm>
            <a:off x="1111320" y="3349800"/>
            <a:ext cx="1697040" cy="1734840"/>
            <a:chOff x="1111320" y="3349800"/>
            <a:chExt cx="1697040" cy="1734840"/>
          </a:xfrm>
        </p:grpSpPr>
        <p:sp>
          <p:nvSpPr>
            <p:cNvPr id="318" name=""/>
            <p:cNvSpPr/>
            <p:nvPr/>
          </p:nvSpPr>
          <p:spPr>
            <a:xfrm>
              <a:off x="1111320" y="3349800"/>
              <a:ext cx="16970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i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111320" y="3853800"/>
              <a:ext cx="16970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X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Y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X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Y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111320" y="3725280"/>
              <a:ext cx="16970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416400" y="3349800"/>
            <a:ext cx="1695240" cy="1734840"/>
            <a:chOff x="3416400" y="3349800"/>
            <a:chExt cx="1695240" cy="1734840"/>
          </a:xfrm>
        </p:grpSpPr>
        <p:sp>
          <p:nvSpPr>
            <p:cNvPr id="322" name=""/>
            <p:cNvSpPr/>
            <p:nvPr/>
          </p:nvSpPr>
          <p:spPr>
            <a:xfrm>
              <a:off x="3416400" y="3349800"/>
              <a:ext cx="16952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Lin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416400" y="3853800"/>
              <a:ext cx="16952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1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2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1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2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416400" y="3725280"/>
              <a:ext cx="16952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120680" y="1914480"/>
            <a:ext cx="1536840" cy="1052280"/>
            <a:chOff x="1120680" y="1914480"/>
            <a:chExt cx="1536840" cy="1052280"/>
          </a:xfrm>
        </p:grpSpPr>
        <p:sp>
          <p:nvSpPr>
            <p:cNvPr id="326" name=""/>
            <p:cNvSpPr/>
            <p:nvPr/>
          </p:nvSpPr>
          <p:spPr>
            <a:xfrm>
              <a:off x="1120680" y="1914480"/>
              <a:ext cx="1536840" cy="34560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Fig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120680" y="2259000"/>
              <a:ext cx="1536840" cy="7077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Point(..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Line(..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20680" y="225648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425760" y="1914480"/>
            <a:ext cx="1536840" cy="991800"/>
            <a:chOff x="3425760" y="1914480"/>
            <a:chExt cx="1536840" cy="991800"/>
          </a:xfrm>
        </p:grpSpPr>
        <p:sp>
          <p:nvSpPr>
            <p:cNvPr id="330" name=""/>
            <p:cNvSpPr/>
            <p:nvPr/>
          </p:nvSpPr>
          <p:spPr>
            <a:xfrm>
              <a:off x="3425760" y="1914480"/>
              <a:ext cx="1536840" cy="34524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333399"/>
                  </a:solidFill>
                  <a:latin typeface="Arial"/>
                </a:rPr>
                <a:t>FigureEle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129920" y="2788920"/>
              <a:ext cx="127800" cy="11736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425760" y="2257200"/>
              <a:ext cx="1536840" cy="531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25760" y="225360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3E5730-DA95-49CF-891A-B7869E7DC789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36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296640" y="1085760"/>
            <a:ext cx="5057640" cy="4231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implements FigureElement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x = 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y = 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697017-12C8-4A65-BBD6-A1C7B0142992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isplay upda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16000" y="1413000"/>
            <a:ext cx="5897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ollection of figure eleme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that move periodical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ust refresh the display as need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0" name=""/>
          <p:cNvSpPr/>
          <p:nvPr/>
        </p:nvSpPr>
        <p:spPr>
          <a:xfrm>
            <a:off x="5904000" y="418464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52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BF7172-E3A1-440F-8F90-2975D3FEE8C2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64" name=""/>
          <p:cNvSpPr/>
          <p:nvPr/>
        </p:nvSpPr>
        <p:spPr>
          <a:xfrm>
            <a:off x="3419640" y="1015920"/>
            <a:ext cx="55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key points in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rebuchet MS"/>
              </a:rPr>
              <a:t>dynamic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 call gra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18132E-942B-4D9C-ACA7-653352405164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 terminology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	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kinds of events </a:t>
            </a:r>
            <a:r>
              <a:rPr b="0" i="1" lang="en-US" sz="2500" spc="-1" strike="noStrike">
                <a:solidFill>
                  <a:srgbClr val="646464"/>
                </a:solidFill>
                <a:latin typeface="Trebuchet MS"/>
              </a:rPr>
              <a:t>could be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 join points but AspectJ exposes this set: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cal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 get &amp; se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xception handle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tatic &amp; dynamic initializa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9FD61C-7DB3-49D1-84D8-EBC92AB7FA67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503280" y="384480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26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a pointcut identifies some set of join poin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match or not match any given join point, 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optionally, can pull out some of the values (‘context’) at that join poi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0" name=""/>
          <p:cNvSpPr/>
          <p:nvPr/>
        </p:nvSpPr>
        <p:spPr>
          <a:xfrm>
            <a:off x="826920" y="4545000"/>
            <a:ext cx="75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cc"/>
                </a:solidFill>
                <a:latin typeface="Trebuchet MS"/>
              </a:rPr>
              <a:t>matches if the join point is a method call with this signature ‘void Line.setP1(Point)’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E52603-5BF7-4F9E-BF77-7FD828FFF0B5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 composi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pointcuts can be composed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&amp;&amp;, || and !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3" name=""/>
          <p:cNvSpPr/>
          <p:nvPr/>
        </p:nvSpPr>
        <p:spPr>
          <a:xfrm>
            <a:off x="250920" y="4508640"/>
            <a:ext cx="86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cc"/>
                </a:solidFill>
                <a:latin typeface="Trebuchet MS"/>
              </a:rPr>
              <a:t>matches either a call to ‘void Line.setP1(Point)’ or a call to ‘void Line.setP2(Point)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024920" y="314172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056107-40D5-4BA6-97D1-E0E057A042EC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er-defined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user-defined (aka named) pointcu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be used in the same way as primitive pointcu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7" name=""/>
          <p:cNvSpPr/>
          <p:nvPr/>
        </p:nvSpPr>
        <p:spPr>
          <a:xfrm>
            <a:off x="552240" y="212256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800360" y="3176640"/>
            <a:ext cx="50328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990000" y="2930400"/>
            <a:ext cx="878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nam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2843280" y="3213000"/>
            <a:ext cx="504720" cy="32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299040" y="2960640"/>
            <a:ext cx="1593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paramet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264360" y="396864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Trebuchet MS"/>
              </a:rPr>
              <a:t>more on parameters and how pointcut can expose values at join points in a few slide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FF1F9E-9A8A-4529-8814-9A4D86F04902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" y="1341360"/>
            <a:ext cx="82296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primitive pointcuts ar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call, execution      - this, target,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get, set             - within, within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handler              - cflow, cflowbel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initialization, static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and with AspectJ5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@annotation, @within, @withincode, @this, @target, @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28C34D-3A84-49EC-9616-ABFB5A0D45A8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8636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XML parsing in org.apache.tomcat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one box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8" name=""/>
          <p:cNvSpPr/>
          <p:nvPr/>
        </p:nvSpPr>
        <p:spPr>
          <a:xfrm>
            <a:off x="3184560" y="12272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3BC4A3-E976-467E-8A43-5678DF90E657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7020000" y="3578040"/>
            <a:ext cx="1547640" cy="4078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rebuchet MS"/>
              </a:rPr>
              <a:t>After Ad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04520" y="2117880"/>
            <a:ext cx="5118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code here runs after each mov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9" name=""/>
          <p:cNvSpPr/>
          <p:nvPr/>
        </p:nvSpPr>
        <p:spPr>
          <a:xfrm>
            <a:off x="6551640" y="253692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678880" y="2597040"/>
            <a:ext cx="245880" cy="68760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600"/>
              <a:gd name="textAreaBottom" fmla="*/ 675720 h 687600"/>
            </a:gdLst>
            <a:ahLst/>
            <a:rect l="textAreaLeft" t="textAreaTop" r="textAreaRight" b="textAreaBottom"/>
            <a:pathLst>
              <a:path w="21600" h="60347">
                <a:moveTo>
                  <a:pt x="3600" y="0"/>
                </a:moveTo>
                <a:arcTo wR="3600" hR="3600" stAng="16200000" swAng="-5400000"/>
                <a:lnTo>
                  <a:pt x="0" y="56747"/>
                </a:lnTo>
                <a:arcTo wR="3600" hR="3600" stAng="10800000" swAng="-5400000"/>
                <a:lnTo>
                  <a:pt x="18000" y="603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678880" y="2711520"/>
            <a:ext cx="245880" cy="458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678720" y="260028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8532720" y="3284640"/>
            <a:ext cx="27000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002360" y="23130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l.setP1(p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6695640" y="3284640"/>
            <a:ext cx="28908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6695640" y="3284640"/>
            <a:ext cx="2089080" cy="0"/>
          </a:xfrm>
          <a:prstGeom prst="line">
            <a:avLst/>
          </a:prstGeom>
          <a:ln w="22320">
            <a:solidFill>
              <a:srgbClr val="bbe0e3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53B823-5900-4184-940F-AB3AD040EEE8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 aspect defines a ‘special module’ that can crosscut other class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9" name=""/>
          <p:cNvSpPr/>
          <p:nvPr/>
        </p:nvSpPr>
        <p:spPr>
          <a:xfrm>
            <a:off x="560160" y="242424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CC63EB-3AA9-41C6-A002-74BB5B10BB41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4076280"/>
            <a:ext cx="7315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what you would ex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update calls are tangled through the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what is going on” is less explici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2" name=""/>
          <p:cNvSpPr/>
          <p:nvPr/>
        </p:nvSpPr>
        <p:spPr>
          <a:xfrm>
            <a:off x="546120" y="1181160"/>
            <a:ext cx="2923920" cy="2923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6639AD-A877-4FF6-901F-52FFA1D10D02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cut across multiple classes…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5" name=""/>
          <p:cNvSpPr/>
          <p:nvPr/>
        </p:nvSpPr>
        <p:spPr>
          <a:xfrm>
            <a:off x="2106360" y="2260440"/>
            <a:ext cx="5118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setX(int))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82840A-2D6F-45C2-9507-CEC33BEA9F3C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use interface signatur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8" name=""/>
          <p:cNvSpPr/>
          <p:nvPr/>
        </p:nvSpPr>
        <p:spPr>
          <a:xfrm>
            <a:off x="986400" y="2690640"/>
            <a:ext cx="6764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B04E64-FCC8-48B7-8D74-9418EF3CB820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multi-class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1" name=""/>
          <p:cNvSpPr/>
          <p:nvPr/>
        </p:nvSpPr>
        <p:spPr>
          <a:xfrm>
            <a:off x="556200" y="1960560"/>
            <a:ext cx="6764400" cy="3263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CAECB5-3FB4-409B-A587-B3D8618E829D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528120" y="2384280"/>
            <a:ext cx="690156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target(figElt) &amp;&amp;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 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fe is bound to the figure element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values at 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64840"/>
            <a:ext cx="8067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pointcuts can explicitly expose certain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dvice can use those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6397A5-130D-420A-83C1-A8AA5D7BDB0B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plaining pointcut parameters…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user-defined pointcut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to all users of user-defined pointcu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3419280" y="2492280"/>
            <a:ext cx="1873080" cy="14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219640" y="2276640"/>
            <a:ext cx="30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pointcut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89960" y="2600280"/>
            <a:ext cx="5941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target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after(Line line) returning: move(line) {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808080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564000" y="3789360"/>
            <a:ext cx="53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 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 flipV="1">
            <a:off x="2268360" y="3176280"/>
            <a:ext cx="13320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40AD8E-54AF-4785-83A8-05196F005BBD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advice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58720" y="123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advice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in advice bod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54" name=""/>
          <p:cNvSpPr/>
          <p:nvPr/>
        </p:nvSpPr>
        <p:spPr>
          <a:xfrm>
            <a:off x="524880" y="2565360"/>
            <a:ext cx="594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pointcut move(Line l): 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target(l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(call(void 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call(void 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580000" y="3284640"/>
            <a:ext cx="34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543640" y="3968640"/>
            <a:ext cx="660240" cy="540000"/>
          </a:xfrm>
          <a:custGeom>
            <a:avLst/>
            <a:gdLst/>
            <a:ahLst/>
            <a:rect l="l" t="t" r="r" b="b"/>
            <a:pathLst>
              <a:path w="503" h="95">
                <a:moveTo>
                  <a:pt x="503" y="0"/>
                </a:moveTo>
                <a:lnTo>
                  <a:pt x="0" y="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195640" y="4184640"/>
            <a:ext cx="79200" cy="347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62080" y="3789360"/>
            <a:ext cx="31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advice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5E7385-3BDB-401B-8818-B340FC9B0B79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09480" y="1267920"/>
            <a:ext cx="792504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Traditional method invocation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arameter values supplied at call sit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join point provides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advi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ointcuts provide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1" name=""/>
          <p:cNvSpPr/>
          <p:nvPr/>
        </p:nvSpPr>
        <p:spPr>
          <a:xfrm>
            <a:off x="3501000" y="3141720"/>
            <a:ext cx="5301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(Line l):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target(l) &amp;&amp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Line line) returning: move(line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6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FD0C04-EAC3-4FD7-83F0-562C102E2D72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8762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123516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URL pattern match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two boxes (using inheritan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69AA0E-0A4D-4F01-9B49-D041F88F5D2A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arget() primitive pointc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09120" y="1508040"/>
            <a:ext cx="84582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(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TypeName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 |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FormalReference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)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does two things: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exposes targe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matches any join point at which target object is an instance of type nam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Line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FigureEleme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9EDA63-2C0F-4BF5-8251-84DD9F10F5B3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expose values at join poi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6" name=""/>
          <p:cNvSpPr/>
          <p:nvPr/>
        </p:nvSpPr>
        <p:spPr>
          <a:xfrm>
            <a:off x="531360" y="1758960"/>
            <a:ext cx="6901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target(figElt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D9515B-FE96-479A-AD6D-199289BDC340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385560" y="1881360"/>
            <a:ext cx="6901560" cy="3644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igElt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ext &amp; multiple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3960720" y="7389720"/>
            <a:ext cx="1656000" cy="3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967280" y="4689360"/>
            <a:ext cx="3960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aking the FigureElement into ac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3672000" y="479736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50BF09-6CBE-48DD-B60A-AFC7A7766A0D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So far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pturing our update policy, with and without AspectJ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5665A6-CB5C-482E-9B1C-5444AB7F4BF4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Original program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7" name=""/>
          <p:cNvSpPr/>
          <p:nvPr/>
        </p:nvSpPr>
        <p:spPr>
          <a:xfrm>
            <a:off x="6073920" y="1017720"/>
            <a:ext cx="285408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C57A2E-694D-4AA3-8D40-F159E39CFD59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racking changes in Lin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0" name=""/>
          <p:cNvSpPr/>
          <p:nvPr/>
        </p:nvSpPr>
        <p:spPr>
          <a:xfrm>
            <a:off x="6087960" y="10018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CDA8D0-3A84-491A-8094-50F4A537C5D3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5591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xtending it to also support changes in Poi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3" name=""/>
          <p:cNvSpPr/>
          <p:nvPr/>
        </p:nvSpPr>
        <p:spPr>
          <a:xfrm>
            <a:off x="608796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</a:t>
            </a:r>
            <a:r>
              <a:rPr b="0" lang="en-US" sz="1000" spc="-1" strike="noStrike">
                <a:solidFill>
                  <a:srgbClr val="99cc00"/>
                </a:solidFill>
                <a:latin typeface="Lucida Console"/>
              </a:rPr>
              <a:t>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F24A12-510F-4FC9-BDA0-328B62FD247C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splayUpdating version 3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Recording which object actually chang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no locus of “display updating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volution is cumbersom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hanges in all class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have to track &amp; change all caller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6" name=""/>
          <p:cNvSpPr/>
          <p:nvPr/>
        </p:nvSpPr>
        <p:spPr>
          <a:xfrm>
            <a:off x="612288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5AC27C-9993-4003-8B78-781AD5B567D0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8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DD963A-B8CA-4435-93EF-B09E6F85531E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1" name=""/>
          <p:cNvSpPr/>
          <p:nvPr/>
        </p:nvSpPr>
        <p:spPr>
          <a:xfrm>
            <a:off x="320040" y="4230720"/>
            <a:ext cx="5194440" cy="2225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||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49DAF1-F76D-48B8-A4A1-6BDC1C1526D7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blems like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6" name=""/>
          <p:cNvSpPr/>
          <p:nvPr/>
        </p:nvSpPr>
        <p:spPr>
          <a:xfrm>
            <a:off x="3327480" y="11714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rcRect l="502" t="4673" r="951" b="39850"/>
          <a:stretch/>
        </p:blipFill>
        <p:spPr>
          <a:xfrm>
            <a:off x="907920" y="1606680"/>
            <a:ext cx="7883640" cy="35510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84360" y="378936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where is logg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lines of code that handle logg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in just one p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even in a small number of pl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776360" y="494172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4BDE00-9013-42BD-8E35-9F85D820CE42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5" name=""/>
          <p:cNvSpPr/>
          <p:nvPr/>
        </p:nvSpPr>
        <p:spPr>
          <a:xfrm>
            <a:off x="319680" y="3592440"/>
            <a:ext cx="5407920" cy="2864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FigureElement.moveBy(int, int) ||</a:t>
            </a: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Y(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EBAEE0-FF17-429E-8E9C-2AB27F4C6526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lear display updating modu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ll changes in singl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volution is modula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9" name=""/>
          <p:cNvSpPr/>
          <p:nvPr/>
        </p:nvSpPr>
        <p:spPr>
          <a:xfrm>
            <a:off x="319680" y="3379680"/>
            <a:ext cx="5407920" cy="3077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target(figElt) &amp;&amp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call(void FigureElement.moveBy(int, int) ||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Y(int)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1A1576-7D67-476F-8568-225A104738E4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324000" y="1089000"/>
            <a:ext cx="8640720" cy="536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s </a:t>
            </a:r>
            <a:r>
              <a:rPr b="0" lang="en-US" sz="4400" spc="-1" strike="noStrike" u="sng">
                <a:solidFill>
                  <a:srgbClr val="006699"/>
                </a:solidFill>
                <a:uFillTx/>
                <a:latin typeface="Trebuchet MS"/>
              </a:rPr>
              <a:t>crosscut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809520" y="1219320"/>
            <a:ext cx="5334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 modularity cuts across class modular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04" name=""/>
          <p:cNvSpPr/>
          <p:nvPr/>
        </p:nvSpPr>
        <p:spPr>
          <a:xfrm>
            <a:off x="646200" y="5354640"/>
            <a:ext cx="6948360" cy="799920"/>
          </a:xfrm>
          <a:prstGeom prst="rect">
            <a:avLst/>
          </a:prstGeom>
          <a:noFill/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49160" y="138420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77960" y="2322360"/>
            <a:ext cx="91440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209760" y="203976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2567160" y="46782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620800" y="42814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0" name=""/>
          <p:cNvCxnSpPr/>
          <p:nvPr/>
        </p:nvCxnSpPr>
        <p:spPr>
          <a:xfrm flipV="1">
            <a:off x="1652400" y="3832920"/>
            <a:ext cx="1080" cy="3056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1" name=""/>
          <p:cNvCxnSpPr>
            <a:stCxn id="512" idx="0"/>
          </p:cNvCxnSpPr>
          <p:nvPr/>
        </p:nvCxnSpPr>
        <p:spPr>
          <a:xfrm flipV="1">
            <a:off x="4395600" y="3832920"/>
            <a:ext cx="1080" cy="30420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3" name=""/>
          <p:cNvCxnSpPr/>
          <p:nvPr/>
        </p:nvCxnSpPr>
        <p:spPr>
          <a:xfrm>
            <a:off x="1652760" y="3833280"/>
            <a:ext cx="274392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4" name=""/>
          <p:cNvCxnSpPr/>
          <p:nvPr/>
        </p:nvCxnSpPr>
        <p:spPr>
          <a:xfrm flipV="1">
            <a:off x="4395600" y="3379320"/>
            <a:ext cx="1080" cy="457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515" name=""/>
          <p:cNvSpPr/>
          <p:nvPr/>
        </p:nvSpPr>
        <p:spPr>
          <a:xfrm>
            <a:off x="7383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383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X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Y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X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Y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383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4815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4815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1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2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1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2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4815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491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ig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49160" y="2550960"/>
            <a:ext cx="1828800" cy="91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Point(..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Line(.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49160" y="2548080"/>
            <a:ext cx="1828800" cy="142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4923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FigureEl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330800" y="3238560"/>
            <a:ext cx="152280" cy="15228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492360" y="2549520"/>
            <a:ext cx="1828800" cy="689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492360" y="2544840"/>
            <a:ext cx="1828800" cy="142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572591-627C-49B1-9AB7-6167BBA56248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i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09480" y="116064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befor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before proceeding at join poin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return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after a join point completes 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throw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ab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(either normally or abnormally)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on arrival at join point gets explicit control over when &amp; if program proceed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5191F6-6066-4D69-A937-7C1188842BF1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5000" y="334800"/>
            <a:ext cx="8458200" cy="7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ract check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47640" y="14130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hat can you use these advice kinds fo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re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parameter is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ost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values were se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condition enforcemen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force parameters to be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99AE59-C99B-49B0-84EA-2CF07AFFE5AA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e-condition: before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2" name=""/>
          <p:cNvSpPr/>
          <p:nvPr/>
        </p:nvSpPr>
        <p:spPr>
          <a:xfrm>
            <a:off x="395280" y="1197000"/>
            <a:ext cx="81723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re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lo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, ..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gt;= MIN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lt;= MAX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gt;= MIN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lt;= MAX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EF9905-4AAE-4B1E-8B3B-66B9CA919C01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st-condition: 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4" name=""/>
          <p:cNvSpPr/>
          <p:nvPr/>
        </p:nvSpPr>
        <p:spPr>
          <a:xfrm>
            <a:off x="427680" y="1305000"/>
            <a:ext cx="8547480" cy="3385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ost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X() == new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Y() == new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6A1029-F2F1-4B61-9455-50FFEDAA38D4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358920" y="1711440"/>
            <a:ext cx="785016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X, MIN_X, MAX_X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Y, MIN_Y, MAX_Y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lip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val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in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th.max(min, Math.min(max, val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033560" y="449100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033560" y="312264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99"/>
                </a:solidFill>
                <a:latin typeface="Trebuchet MS"/>
              </a:rPr>
              <a:t>condition enforcement: around advice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A74C70-492A-4BA0-8604-59383073F282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method: proceed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09120" y="1368360"/>
            <a:ext cx="807732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or each around advice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aroun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 arg1, T2 arg2, …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re is a special method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procee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, T2, …)</a:t>
            </a:r>
            <a:br>
              <a:rPr sz="2400"/>
            </a:b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ailable only in around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means </a:t>
            </a:r>
            <a:r>
              <a:rPr b="0" i="1" lang="en-GB" sz="2800" spc="-1" strike="noStrike">
                <a:solidFill>
                  <a:srgbClr val="646464"/>
                </a:solidFill>
                <a:latin typeface="Trebuchet MS"/>
              </a:rPr>
              <a:t>“run what would have run if this around advice had not been defined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FFA7E7-D0B1-4002-9575-CDD79E0C2A0B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820080" y="1376280"/>
            <a:ext cx="7313040" cy="3934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Cach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yLookupTable cache = new MyLookupTabl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x, 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ret = cache.lookup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if (ret ==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ul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ret = proceed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che.add(x, y, re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re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843280" y="3897360"/>
            <a:ext cx="9460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tra: caching with around 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4636AE-8CF6-4661-8541-58DB04354ECF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itical aspects of large systems don’t fit in traditional modul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, error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emory manageme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formance optimiz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5191200" y="2457360"/>
            <a:ext cx="3809520" cy="2608200"/>
            <a:chOff x="5191200" y="2457360"/>
            <a:chExt cx="3809520" cy="2608200"/>
          </a:xfrm>
        </p:grpSpPr>
        <p:pic>
          <p:nvPicPr>
            <p:cNvPr id="193" name="" descr=""/>
            <p:cNvPicPr/>
            <p:nvPr/>
          </p:nvPicPr>
          <p:blipFill>
            <a:blip r:embed="rId2"/>
            <a:srcRect l="502" t="4673" r="951" b="39850"/>
            <a:stretch/>
          </p:blipFill>
          <p:spPr>
            <a:xfrm>
              <a:off x="5191200" y="2457360"/>
              <a:ext cx="3751200" cy="26082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194" name=""/>
            <p:cNvSpPr/>
            <p:nvPr/>
          </p:nvSpPr>
          <p:spPr>
            <a:xfrm>
              <a:off x="5343480" y="4609800"/>
              <a:ext cx="365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logging, security, optimizatio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F98B86-EE61-494B-8500-16CC284E6859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7600" y="151920"/>
            <a:ext cx="76201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55280" y="36450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rosscuts of methods with a common property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ublic/private, return a certain value, in a particular packag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logging, debugging, profilin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 on entry to every </a:t>
            </a:r>
            <a:r>
              <a:rPr b="1" i="1" lang="en-US" sz="2000" spc="-1" strike="noStrike">
                <a:solidFill>
                  <a:srgbClr val="646464"/>
                </a:solidFill>
                <a:latin typeface="Trebuchet MS"/>
              </a:rPr>
              <a:t>public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 metho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1484280"/>
            <a:ext cx="3200400" cy="20376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prin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1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oo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240000" y="981000"/>
            <a:ext cx="3256200" cy="2520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sca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2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rotz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bar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724360" y="1341360"/>
            <a:ext cx="3200400" cy="17960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cop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3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String s1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19DEEF-B0C8-4424-9B66-50B98BAD8FF2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24000" y="4833720"/>
            <a:ext cx="8712000" cy="161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sider code maintenan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adds a public method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i.e. extends public interface – this code will still wor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reads this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at’s really going on” is explici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51" name=""/>
          <p:cNvSpPr/>
          <p:nvPr/>
        </p:nvSpPr>
        <p:spPr>
          <a:xfrm>
            <a:off x="534600" y="148284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warning(e);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eatly captures public interface of my pack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ADBB80-5EC5-40CA-8915-15177DDB409E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ldcarding in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5" name=""/>
          <p:cNvSpPr/>
          <p:nvPr/>
        </p:nvSpPr>
        <p:spPr>
          <a:xfrm>
            <a:off x="431640" y="1052640"/>
            <a:ext cx="8521560" cy="43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*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graphics.ge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.*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any sub-package of graph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Point.*(..)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*(..))  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any 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Y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*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set*(*))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set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..)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constru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347440" y="3430440"/>
            <a:ext cx="28602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*” is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..” is multi-part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09ECD7-35A1-4AD3-9E5A-FEA913EA254F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value: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84280" y="1596600"/>
            <a:ext cx="77724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flective access to the join point from advi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Methods like: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Signature  getSignature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Object[]   getArgs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lated ‘thisJoinPointStaticPart’ provides only statically determinable por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46464"/>
                </a:solidFill>
                <a:latin typeface="Trebuchet MS"/>
              </a:rPr>
              <a:t>better perform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3D9879-A826-4207-BDD9-DA0E6E33D88E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0" name=""/>
          <p:cNvSpPr/>
          <p:nvPr/>
        </p:nvSpPr>
        <p:spPr>
          <a:xfrm>
            <a:off x="319680" y="1125360"/>
            <a:ext cx="8547480" cy="3842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throwing(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DeclaringTyp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e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959280" y="4184640"/>
            <a:ext cx="4892760" cy="100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cc"/>
                </a:solidFill>
                <a:latin typeface="Trebuchet MS"/>
              </a:rPr>
              <a:t>using thisJoinPoint makes it possible for the advice to recover information about where it is run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183BC9-41AC-4BF0-A779-D78837709F74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y join point at which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object is an instance of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contained within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specified methods or constructo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ield reference or assignmen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4" name=""/>
          <p:cNvSpPr/>
          <p:nvPr/>
        </p:nvSpPr>
        <p:spPr>
          <a:xfrm>
            <a:off x="1440000" y="1197000"/>
            <a:ext cx="838188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this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code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Member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g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s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B51ABF-AF24-4C25-8D81-D8F8415E699D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nsure that creation of figure elements is done through the factory method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7" name=""/>
          <p:cNvSpPr/>
          <p:nvPr/>
        </p:nvSpPr>
        <p:spPr>
          <a:xfrm>
            <a:off x="503280" y="2997360"/>
            <a:ext cx="8209080" cy="1739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  makeLine(Line p1, Line p2)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.. 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makePoint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x,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y)   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A9211B-69DE-464D-A485-F0A7179BFE7A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y to police with a run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but can we do bette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0" name=""/>
          <p:cNvSpPr/>
          <p:nvPr/>
        </p:nvSpPr>
        <p:spPr>
          <a:xfrm>
            <a:off x="468360" y="2565360"/>
            <a:ext cx="81057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: illegalNewFigElt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hrow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("Use factory method instead.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D0B4D0-057C-4A8C-8320-886B1E169D46}" type="slidenum">
              <a:t>67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233000"/>
            <a:ext cx="82296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report as a compile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‘declare warning/error’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ust be a statically resolvable pointcu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3" name=""/>
          <p:cNvSpPr/>
          <p:nvPr/>
        </p:nvSpPr>
        <p:spPr>
          <a:xfrm>
            <a:off x="1141920" y="2276640"/>
            <a:ext cx="676440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 flipV="1">
            <a:off x="6227280" y="3933720"/>
            <a:ext cx="12970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267EF2-668D-43BF-89EB-9B4348D9F4A9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ore generally applicabl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policing all figure 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7" name=""/>
          <p:cNvSpPr/>
          <p:nvPr/>
        </p:nvSpPr>
        <p:spPr>
          <a:xfrm>
            <a:off x="1677600" y="2529000"/>
            <a:ext cx="55299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FigureElement+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245360" y="2492280"/>
            <a:ext cx="1719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‘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+’ means this type and all subty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6192360" y="2781360"/>
            <a:ext cx="1295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0014C8-28E9-4BBA-BF25-0A29B6633871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4"/>
                </a:solidFill>
                <a:latin typeface="Trebuchet MS"/>
              </a:rPr>
              <a:t>tangled code has a cost</a:t>
            </a:r>
            <a:endParaRPr b="0" lang="en-US" sz="36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understa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chan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reases with size of system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aintenance costs are hu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5C4EB8-2D26-49CF-90D5-A7F8F685E30C}" type="slidenum">
              <a:t>7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‘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Local enforcement’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82" name=""/>
          <p:cNvSpPr/>
          <p:nvPr/>
        </p:nvSpPr>
        <p:spPr>
          <a:xfrm>
            <a:off x="287280" y="1952640"/>
            <a:ext cx="864072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ter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: set(Point Line.*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!withincode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*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setter method, even inside Line class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5A1CF5-2862-454D-A875-43F07D831D6A}" type="slidenum">
              <a:t>70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more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ethod/constructor execu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execu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void Point.setX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bject initializa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.new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lass initialization join points (as the class is loaded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static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CFC885-6413-4617-B355-EF5346ED604E}" type="slidenum">
              <a:t>71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: call and execu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6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79E323-A77F-456E-BAB5-DBCB03EDA842}" type="slidenum">
              <a:t>72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4475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of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be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below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4716000" y="3465360"/>
            <a:ext cx="3657960" cy="1884240"/>
            <a:chOff x="4716000" y="3465360"/>
            <a:chExt cx="3657960" cy="1884240"/>
          </a:xfrm>
        </p:grpSpPr>
        <p:sp>
          <p:nvSpPr>
            <p:cNvPr id="619" name=""/>
            <p:cNvSpPr/>
            <p:nvPr/>
          </p:nvSpPr>
          <p:spPr>
            <a:xfrm flipH="1">
              <a:off x="5034960" y="457812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4982400" y="4630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4925880" y="469080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4715640" y="403380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7870680" y="40100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7817760" y="4062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760520" y="412272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7551720" y="34653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6031800" y="43718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5979960" y="442404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5922360" y="44845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5713560" y="38271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40440" y="419076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173560" y="425124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110280" y="375912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319880" y="362556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605720" y="367164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183360" y="368604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219720" y="425448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7870680" y="50432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7817760" y="5095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7760520" y="51559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7551720" y="449892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156440" y="453708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261120" y="428292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rot="5358600">
              <a:off x="7922160" y="408312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 rot="5358600">
              <a:off x="5153400" y="468720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 rot="5358600">
              <a:off x="6138360" y="448380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 rot="5358600">
              <a:off x="6241680" y="448848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 rot="5358600">
              <a:off x="7820280" y="513288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 rot="5358600">
              <a:off x="5949720" y="445104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4738320" y="1285920"/>
            <a:ext cx="3657960" cy="1884240"/>
            <a:chOff x="4738320" y="1285920"/>
            <a:chExt cx="3657960" cy="1884240"/>
          </a:xfrm>
        </p:grpSpPr>
        <p:sp>
          <p:nvSpPr>
            <p:cNvPr id="651" name=""/>
            <p:cNvSpPr/>
            <p:nvPr/>
          </p:nvSpPr>
          <p:spPr>
            <a:xfrm flipH="1">
              <a:off x="5057280" y="2398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5004720" y="2451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4948200" y="251136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4737960" y="185436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7893000" y="18306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7840080" y="1882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7782840" y="194328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574040" y="12859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6054120" y="21924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6002280" y="224460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5944680" y="23050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5735880" y="16477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162760" y="201132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195880" y="207180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132600" y="157968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342200" y="144612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628040" y="149220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205680" y="150660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242040" y="207504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7893000" y="28638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7840080" y="291636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7782840" y="29764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7574040" y="231948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178760" y="235764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283440" y="210348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 rot="5358600">
              <a:off x="7944480" y="190368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rot="5358600">
              <a:off x="5175720" y="250776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 rot="5358600">
              <a:off x="6160680" y="230436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 rot="5358600">
              <a:off x="6264000" y="230904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 rot="5358600">
              <a:off x="7842600" y="295344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 rot="5358600">
              <a:off x="5972040" y="227160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4967280" y="119700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31" y="1286"/>
                  <a:pt x="1869" y="1209"/>
                  <a:pt x="1833" y="1216"/>
                </a:cubicBezTo>
                <a:cubicBezTo>
                  <a:pt x="1797" y="1223"/>
                  <a:pt x="1807" y="1253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61" y="980"/>
                  <a:pt x="42" y="937"/>
                </a:cubicBezTo>
                <a:cubicBezTo>
                  <a:pt x="22" y="894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944960" y="330048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29" y="1286"/>
                  <a:pt x="1899" y="1247"/>
                  <a:pt x="1863" y="1254"/>
                </a:cubicBezTo>
                <a:cubicBezTo>
                  <a:pt x="1827" y="1261"/>
                  <a:pt x="1812" y="1259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251" y="846"/>
                  <a:pt x="232" y="803"/>
                </a:cubicBezTo>
                <a:cubicBezTo>
                  <a:pt x="212" y="760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699D95-4793-45F1-9143-6F7DEFA8759C}" type="slidenum">
              <a:t>73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ly top-level mov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4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6" name=""/>
          <p:cNvSpPr/>
          <p:nvPr/>
        </p:nvSpPr>
        <p:spPr>
          <a:xfrm>
            <a:off x="322200" y="1913040"/>
            <a:ext cx="8605800" cy="4498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cut topLevelMove(FigureElement fe):</a:t>
            </a:r>
            <a:br>
              <a:rPr sz="1800"/>
            </a:b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    move(fe) &amp;&amp; !cflowbelow(move(FigureEleme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topLevel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0A55D9-4039-4DA0-8836-29DEED51D28D}" type="slidenum">
              <a:t>74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ava5 introduced many changes to the Java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Generics, enum types, varargs support, covariance, autoboxing, annotation typ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ll of these featur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AspectJ language has been extended to enable exploitation of these new featur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or all the details: see the AspectJ5 quick reference guide and AspectJ5 developers notebook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84D381-8406-4805-961B-C1E6852783E7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20560" y="162576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ava 5 introduces annotations to the Java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s are metadata that can be attached to various Java language constru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646464"/>
                </a:solidFill>
                <a:latin typeface="Trebuchet MS"/>
              </a:rPr>
              <a:t>methods, fields, types, parameters, constructors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J5 extends the pointcut language to support join point matching based to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036003-1C0E-4D95-A735-CDEF5E24D163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93" name=""/>
          <p:cNvSpPr/>
          <p:nvPr/>
        </p:nvSpPr>
        <p:spPr>
          <a:xfrm>
            <a:off x="287280" y="2276640"/>
            <a:ext cx="5334120" cy="4208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@interfac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MovingOperation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{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H="1" flipV="1">
            <a:off x="4464000" y="2457000"/>
            <a:ext cx="2362320" cy="83844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732720" y="2997360"/>
            <a:ext cx="15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Defining an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588000" y="400536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Marking methods with the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H="1" flipV="1">
            <a:off x="3058920" y="4113360"/>
            <a:ext cx="3600360" cy="28728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3058920" y="4437000"/>
            <a:ext cx="3600360" cy="79236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B46438-903B-448F-8AC7-B87690080BF5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0" name=""/>
          <p:cNvSpPr/>
          <p:nvPr/>
        </p:nvSpPr>
        <p:spPr>
          <a:xfrm>
            <a:off x="1249560" y="3268800"/>
            <a:ext cx="6627240" cy="2562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call(@MovingOperation 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Pointcuts can now be written to match on annotation properties of the pointcut rather than the n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078E1C-A57F-4A31-AE83-4367CEF9E374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ew pointcut primitives have been created to make working with annotated join points even easie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@within, @withincode, @this, @target, @args, @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B287FE-3DFA-41DC-8212-A0CF0E933868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e AOP idea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is inherent in complex syste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concer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clear purpo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natural structur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1B1A6C-7F66-4B6E-8BBC-F9E55190EE9D}" type="slidenum">
              <a:t>8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06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753920" y="3260880"/>
            <a:ext cx="429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7DA711-B4D7-473A-B4E7-799E0E12D8B4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, but with a </a:t>
            </a:r>
            <a:r>
              <a:rPr b="0" i="1" lang="en-US" sz="3200" spc="-1" strike="noStrike">
                <a:solidFill>
                  <a:srgbClr val="646464"/>
                </a:solidFill>
                <a:latin typeface="Trebuchet MS"/>
              </a:rPr>
              <a:t>TargetTyp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0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754280" y="3260880"/>
            <a:ext cx="429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BFE965-BCE0-40F1-903B-9A602A8930D0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3160" y="2816280"/>
            <a:ext cx="7724520" cy="3629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lt;as before&gt;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 display per figure eleme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5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 aspect makes an inter-type declaration of a display field onto all Figure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D0536A-E9DA-46F2-8F7D-80DE12836B4E}" type="slidenum">
              <a:t>82</a:t>
            </a:fld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mmon ITD field idiom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display field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s a field in objects of type FigureElement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but belongs to DisplayUpdating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o, DisplayUpdating should provide getter/sette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7" name=""/>
          <p:cNvSpPr/>
          <p:nvPr/>
        </p:nvSpPr>
        <p:spPr>
          <a:xfrm>
            <a:off x="287280" y="3200400"/>
            <a:ext cx="8569440" cy="3326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fe.display.update(fe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119640" y="4365720"/>
            <a:ext cx="246564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private with respect to enclosing aspect decla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5616720" y="3789360"/>
            <a:ext cx="610920" cy="719280"/>
          </a:xfrm>
          <a:custGeom>
            <a:avLst/>
            <a:gdLst/>
            <a:ahLst/>
            <a:rect l="l" t="t" r="r" b="b"/>
            <a:pathLst>
              <a:path w="2231" h="297">
                <a:moveTo>
                  <a:pt x="2231" y="0"/>
                </a:moveTo>
                <a:lnTo>
                  <a:pt x="0" y="2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AC679E-E627-4FF8-B5A3-16B7BF2AB8F1}" type="slidenum">
              <a:t>83</a:t>
            </a:fld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-to-man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isplayUpdating version6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 figurelement knows about multiple Display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22" name=""/>
          <p:cNvSpPr/>
          <p:nvPr/>
        </p:nvSpPr>
        <p:spPr>
          <a:xfrm>
            <a:off x="311040" y="2205000"/>
            <a:ext cx="8601120" cy="4285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FigureElement.displays = new LinkedList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dd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add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remove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Iterator iter = fe.displays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..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F852D0-E9F1-4420-9C71-5673AC5E5A28}" type="slidenum">
              <a:t>84</a:t>
            </a:fld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ointcuts can have additional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haps no advice on th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n figure editor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6464"/>
                </a:solidFill>
                <a:latin typeface="Courier New"/>
              </a:rPr>
              <a:t>move()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 can have advice from multiple aspe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module can expose certain well-defined 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524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a ‘pointcut library’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24F2A9-BD52-4940-9EC2-1BAD8FA8884A}" type="slidenum">
              <a:t>85</a:t>
            </a:fld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pointcuts can be specializ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advice on the 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aspects can be packaged and extended by users desiring their capabi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3" marL="1600200" indent="-2286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 ‘aspect library’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5F4CAA-FEDD-43E3-8D43-177762098CD4}" type="slidenum">
              <a:t>86</a:t>
            </a:fld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20200" y="550800"/>
            <a:ext cx="82645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role types and reusable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8" name=""/>
          <p:cNvSpPr/>
          <p:nvPr/>
        </p:nvSpPr>
        <p:spPr>
          <a:xfrm>
            <a:off x="287280" y="1592280"/>
            <a:ext cx="8569440" cy="4835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ubject 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er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Lucida Console"/>
              </a:rPr>
              <a:t>  </a:t>
            </a:r>
            <a:br>
              <a:rPr sz="500"/>
            </a:b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List Subject.observers =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rrayList();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add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getObservers(Subject s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pointcu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changes(Subject s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(Subject s): changes(s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Iterator iter = getObservers(s)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whil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( iter.hasNext() 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notifyObserver(s, ((Observer)iter.next())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notifyObserver(Subject s, Observer o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496FBD-1FB2-45EA-A0F4-DD809FB152BE}" type="slidenum">
              <a:t>87</a:t>
            </a:fld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is the concrete reu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7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ust an example of subject/observer patter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1" name=""/>
          <p:cNvSpPr/>
          <p:nvPr/>
        </p:nvSpPr>
        <p:spPr>
          <a:xfrm>
            <a:off x="250920" y="2276640"/>
            <a:ext cx="8642160" cy="4162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extend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FigureElement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ubjec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Display   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e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hanges(Subject s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s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otifyObserver(Subject s, Observer o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(Display)o).update(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13F36D-71A8-4FC3-AEC8-830143A6FF53}" type="slidenum">
              <a:t>88</a:t>
            </a:fld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what happens if two pieces of advice apply to the same join point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4" name=""/>
          <p:cNvSpPr/>
          <p:nvPr/>
        </p:nvSpPr>
        <p:spPr>
          <a:xfrm>
            <a:off x="250920" y="2492280"/>
            <a:ext cx="4495680" cy="15541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o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176720" y="314172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16000" y="4834080"/>
            <a:ext cx="3276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jp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 means ‘</a:t>
            </a: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hisJoinPoint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5E81BD-3D33-46BF-A451-76D2B9A84B3F}" type="slidenum">
              <a:t>89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tutorial is about...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AOP and AspectJ to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mprove the modularity of crosscutting concer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s are two thing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cerns that crosscu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desig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 programming construc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implementatio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nables crosscutting concerns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o be captured in modular uni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34477B-E318-4589-A311-EC5259604235}" type="slidenum">
              <a:t>9</a:t>
            </a:fld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286920" y="1295280"/>
            <a:ext cx="838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46464"/>
                </a:solidFill>
                <a:latin typeface="Trebuchet MS"/>
              </a:rPr>
              <a:t>order is undefined</a:t>
            </a: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, unles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the same aspect,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subaspect, 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using declare 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eceden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9" name=""/>
          <p:cNvSpPr/>
          <p:nvPr/>
        </p:nvSpPr>
        <p:spPr>
          <a:xfrm>
            <a:off x="216000" y="3573360"/>
            <a:ext cx="4495680" cy="1797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recedence: Security, *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500720" y="191628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94BDD8-3861-476A-9A76-618311847891}" type="slidenum">
              <a:t>90</a:t>
            </a:fld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31640" y="119700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n alternative ‘annotation based’ style of aspect declar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46464"/>
                </a:solidFill>
                <a:latin typeface="Trebuchet MS"/>
              </a:rPr>
              <a:t>For a subset of the AspectJ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ables aspect development in pure-Java IDE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spect is pure-java, compiled with Java5 and then given to the AspectJ weav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tyles can be mixed within an application (or even within a source file!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intent is that the semantics are identical, regardless of the source style chosen to express th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0042E4-FCA7-4C31-A845-90E0267B9B28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1116000" y="3645000"/>
            <a:ext cx="698508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import org.aspectj.lang.annotation.*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Asp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class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defining an aspec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, a class is annotated to indicate it is an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6" name=""/>
          <p:cNvSpPr/>
          <p:nvPr/>
        </p:nvSpPr>
        <p:spPr>
          <a:xfrm>
            <a:off x="1079640" y="1916280"/>
            <a:ext cx="698472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aspect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443640" y="429264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rebuchet MS"/>
              </a:rPr>
              <a:t>Don’t forget the im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H="1" flipV="1">
            <a:off x="5686200" y="4076280"/>
            <a:ext cx="1152360" cy="53964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DEBF2D-0941-4091-81F6-6068CA3EC6A9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pointcu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31640" y="123300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Unsurprisingly, pointcuts and advice declarations involve these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Lucida Console"/>
              </a:rPr>
              <a:t>@Pointcut @Before @After @AfterReturning @AfterThrowing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</a:t>
            </a:r>
            <a:r>
              <a:rPr b="1" lang="en-GB" sz="2400" spc="-1" strike="noStrike">
                <a:solidFill>
                  <a:srgbClr val="3333cc"/>
                </a:solidFill>
                <a:latin typeface="Lucida Console"/>
              </a:rPr>
              <a:t>@Pointcut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annotation is attached to a method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46464"/>
                </a:solidFill>
                <a:latin typeface="Trebuchet MS"/>
              </a:rPr>
              <a:t>the annotation value is the pointcut text</a:t>
            </a: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1" name=""/>
          <p:cNvSpPr/>
          <p:nvPr/>
        </p:nvSpPr>
        <p:spPr>
          <a:xfrm>
            <a:off x="324000" y="3483000"/>
            <a:ext cx="410364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ointcut anyCall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call(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88000" y="3446640"/>
            <a:ext cx="406872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..)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anyCall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42920" y="4346640"/>
            <a:ext cx="4284720" cy="5806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pointcut listCalls(MyList list)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call(* *(int)) &amp;&amp; target(list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788000" y="4346640"/>
            <a:ext cx="406872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int)) &amp;&amp; target(list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Calls(MyList li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427640" y="3699000"/>
            <a:ext cx="358560" cy="215640"/>
          </a:xfrm>
          <a:prstGeom prst="rightArrow">
            <a:avLst>
              <a:gd name="adj1" fmla="val 50000"/>
              <a:gd name="adj2" fmla="val 4156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427640" y="4491000"/>
            <a:ext cx="358560" cy="216000"/>
          </a:xfrm>
          <a:prstGeom prst="rightArrow">
            <a:avLst>
              <a:gd name="adj1" fmla="val 50000"/>
              <a:gd name="adj2" fmla="val 41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139850-31FB-4946-933E-618C3027AD2D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type reference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are resolved in the context of any types imported into the source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need to be resolved </a:t>
            </a: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without</a:t>
            </a: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 that information therefore have to be fully specified (if not visible by default - in the same package or in java.lang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this doesn’t apply to wildcards which are always resolved in global scop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051560" indent="-21024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Trebuchet MS"/>
              </a:rPr>
              <a:t>List has to be fully qualified, importing it into won’t help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9" name=""/>
          <p:cNvSpPr/>
          <p:nvPr/>
        </p:nvSpPr>
        <p:spPr>
          <a:xfrm>
            <a:off x="1042920" y="4257720"/>
            <a:ext cx="712800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"call(* java.util.List.*(..)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Operation() {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4A298C-F6FF-4738-AF98-0767C578F213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 :</a:t>
            </a:r>
            <a:br>
              <a:rPr sz="4000"/>
            </a:b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 style advice is a method with the appropriate advice 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Lucida Console"/>
              </a:rPr>
              <a:t>@Before @After @AfterReturning @AfterThrowing,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2" name=""/>
          <p:cNvSpPr/>
          <p:nvPr/>
        </p:nvSpPr>
        <p:spPr>
          <a:xfrm>
            <a:off x="503280" y="2776680"/>
            <a:ext cx="835344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before(Foo foo) : call(* org.pkg..*(..)) &amp;&amp; this(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03280" y="4071960"/>
            <a:ext cx="835344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@Before("call(* org.pkg..*(..)) &amp;&amp; this(foo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public void callFromFoo(Foo 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 rot="5400000">
            <a:off x="4428720" y="3783240"/>
            <a:ext cx="358920" cy="215640"/>
          </a:xfrm>
          <a:prstGeom prst="rightArrow">
            <a:avLst>
              <a:gd name="adj1" fmla="val 50000"/>
              <a:gd name="adj2" fmla="val 416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9D09C4-1FB4-41AC-8116-3CF9A23A5BCD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216000" y="1233360"/>
            <a:ext cx="8748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ummar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7" name=""/>
          <p:cNvSpPr/>
          <p:nvPr/>
        </p:nvSpPr>
        <p:spPr>
          <a:xfrm>
            <a:off x="6019920" y="1295280"/>
            <a:ext cx="29718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dvi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ou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inter-type dec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metho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decl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ced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refle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StaticPa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505320" y="1295280"/>
            <a:ext cx="26668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ointcu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rimitive-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l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execu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handl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get  se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 target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in withincod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flow cflowbelow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r-defined-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pointcut declara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abstra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ri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66640" y="1295280"/>
            <a:ext cx="331956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join points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hod &amp; constructo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eption hand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spec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osscutting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C31169-D2BF-405C-80CD-01CA662B3E6F}" type="slidenum">
              <a:t>96</a:t>
            </a:fld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II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Adopting AspectJ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hen are aspects appropriat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46464"/>
                </a:solidFill>
                <a:latin typeface="Trebuchet MS"/>
              </a:rPr>
              <a:t>Think!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Is there a concern that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rosscuts the structure of several objects or oper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s beneficial to separate o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4D72F9-29F7-48FD-8671-67675063E72A}" type="slidenum">
              <a:t>98</a:t>
            </a:fld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a design concern that involves several objects or operatio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implemented without AOP would lead to distant places in the code th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the same thing 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eEntry(“Point.set”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a coordinated single th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iming, observer patter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harder to find the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D950EB-85D6-4FA9-AE90-42988DCB4CB5}" type="slidenum">
              <a:t>9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3T15:26:08Z</dcterms:created>
  <dc:creator/>
  <dc:description/>
  <dc:language>en-US</dc:language>
  <cp:lastModifiedBy>IBM_USER</cp:lastModifiedBy>
  <dcterms:modified xsi:type="dcterms:W3CDTF">2006-05-08T11:57:20Z</dcterms:modified>
  <cp:revision>577</cp:revision>
  <dc:subject/>
  <dc:title>Aspect-Oriented Programming with AspectJ® </dc:title>
</cp:coreProperties>
</file>